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FEF-C324-4251-A3B0-B8F602BB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95A-1D88-4D87-889E-95CE9EB1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DD1-0E59-4845-8C98-AB78854B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47B-0C54-4E24-8C88-04598DF5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C789-9C57-49A2-9EF7-F9277174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846B-22A7-41A2-A75C-C3ACBD08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ED39-F6D8-403B-8CA3-708CD4ED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4420-FE97-4AE3-B4CE-BC824748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F349-9915-4D8A-82D4-9C2BCE6D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7C93-7188-4D73-81B4-BB8C5540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7CB9-4D49-4706-BD36-D5DD1FBF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C44-DCB8-4747-BB44-48190239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A0C8-F81F-4D25-8125-67564F0C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562A-3B1F-4C64-9A62-689B582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A20B-2639-42B1-8181-72E95B73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5D07-141B-4295-9F66-FC6FDBBD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0330-DCF4-4DE3-9140-74B8D5FB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F6C-AAA7-4A5D-8962-6C5834CF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9B9-8696-4902-90F2-75F7ADC0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C1A-505F-4F37-955B-AA0F7456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DFE-0711-4496-8A41-E1188A9A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840-7C96-464F-8806-02B943F4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128-D523-43F1-A3EE-BD750A6E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D39-0882-462F-AB9D-2B31C0E0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75BC-4331-47BD-BDE2-1EA24D0693D1}" type="slidenum">
              <a:rPr b="0" lang="en-A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56A3-D4E4-44C2-BC5F-7552D37B9C1D}" type="slidenum">
              <a:rPr b="0" lang="en-A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68400"/>
            <a:ext cx="77724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ahoma"/>
              </a:rPr>
              <a:t>Training Needs Analysis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545472"/>
                </a:solidFill>
                <a:latin typeface="Tahoma"/>
              </a:rPr>
              <a:t>If you think training is expensive try ignorance!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port the findin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itle pag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ecutive summar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able of cont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commend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aining Pla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ata collection and analysis method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st analysis, proposed costs of recommended solutio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8" name="bd06937_" descr=""/>
          <p:cNvPicPr/>
          <p:nvPr/>
        </p:nvPicPr>
        <p:blipFill>
          <a:blip r:embed="rId10"/>
          <a:stretch/>
        </p:blipFill>
        <p:spPr>
          <a:xfrm>
            <a:off x="5486400" y="1600200"/>
            <a:ext cx="3276720" cy="304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FD3-0C41-4E12-A935-2AFF80A30D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ahoma"/>
              </a:rPr>
              <a:t>Recap!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 TNA is the 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method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of determining if a training need exists and if it does, what training is required to fill the gap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uch of the TNA process is about asking questions and getting answ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erforming a TNA requires seven steps, which build on each othe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sting the performance problem and comparing training costs is an important part of the TNA repor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7A4-45D5-4394-A359-EE1FE2EE31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arning Outco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fine a training needs analysis (TNA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xplain the significance of a TN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xplain the process for carrying out a TN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duct a TN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port the findings of a TN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91C-A512-4E7E-BFF6-E67AC4F4AE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Training Proce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1905120"/>
            <a:ext cx="1905120" cy="12952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43570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Identify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h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276720"/>
            <a:ext cx="1905120" cy="12952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53009" dir="18693983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Evaluate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h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3276720"/>
            <a:ext cx="1904760" cy="12952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43570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Plan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4648320"/>
            <a:ext cx="1905120" cy="12952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43570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Deliver</a:t>
            </a:r>
            <a:r>
              <a:rPr b="1" lang="en-US" sz="24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h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979400">
            <a:off x="5744880" y="2190600"/>
            <a:ext cx="1662120" cy="754200"/>
          </a:xfrm>
          <a:custGeom>
            <a:avLst/>
            <a:gdLst>
              <a:gd name="textAreaLeft" fmla="*/ 290880 w 1662120"/>
              <a:gd name="textAreaRight" fmla="*/ 1205280 w 1662120"/>
              <a:gd name="textAreaTop" fmla="*/ 100800 h 754200"/>
              <a:gd name="textAreaBottom" fmla="*/ 653400 h 75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9557600">
            <a:off x="2133720" y="2209680"/>
            <a:ext cx="1662120" cy="685800"/>
          </a:xfrm>
          <a:custGeom>
            <a:avLst/>
            <a:gdLst>
              <a:gd name="textAreaLeft" fmla="*/ 290880 w 1662120"/>
              <a:gd name="textAreaRight" fmla="*/ 1205280 w 16621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2779400">
            <a:off x="1904760" y="4876560"/>
            <a:ext cx="1662120" cy="753840"/>
          </a:xfrm>
          <a:custGeom>
            <a:avLst/>
            <a:gdLst>
              <a:gd name="textAreaLeft" fmla="*/ 290880 w 1662120"/>
              <a:gd name="textAreaRight" fmla="*/ 1205280 w 1662120"/>
              <a:gd name="textAreaTop" fmla="*/ 100800 h 753840"/>
              <a:gd name="textAreaBottom" fmla="*/ 653040 h 753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9280800">
            <a:off x="5562000" y="4952160"/>
            <a:ext cx="1662120" cy="754200"/>
          </a:xfrm>
          <a:custGeom>
            <a:avLst/>
            <a:gdLst>
              <a:gd name="textAreaLeft" fmla="*/ 288000 w 1662120"/>
              <a:gd name="textAreaRight" fmla="*/ 1197720 w 1662120"/>
              <a:gd name="textAreaTop" fmla="*/ 100800 h 754200"/>
              <a:gd name="textAreaBottom" fmla="*/ 653400 h 75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93" hR="21600" stAng="10800000" swAng="5400000"/>
                <a:lnTo>
                  <a:pt x="11820" y="0"/>
                </a:lnTo>
                <a:arcTo wR="7493" hR="21600" stAng="-5400000" swAng="2667223"/>
                <a:lnTo>
                  <a:pt x="21171" y="14400"/>
                </a:lnTo>
                <a:lnTo>
                  <a:pt x="17149" y="21600"/>
                </a:lnTo>
                <a:lnTo>
                  <a:pt x="12268" y="14400"/>
                </a:lnTo>
                <a:lnTo>
                  <a:pt x="14556" y="14400"/>
                </a:lnTo>
                <a:arcTo wR="7493" hR="21600" stAng="-2732777" swAng="-2308875"/>
                <a:lnTo>
                  <a:pt x="9656" y="920"/>
                </a:lnTo>
                <a:arcTo wR="7493" hR="21600" stAng="-5758348" swAng="-5041652"/>
                <a:close/>
              </a:path>
              <a:path fill="darkenLess" w="21600" h="21600">
                <a:moveTo>
                  <a:pt x="0" y="21600"/>
                </a:moveTo>
                <a:arcTo wR="7493" hR="21600" stAng="10800000" swAng="5400000"/>
                <a:lnTo>
                  <a:pt x="7493" y="0"/>
                </a:lnTo>
                <a:arcTo wR="7493" hR="21600" stAng="-5400000" swAng="358348"/>
                <a:lnTo>
                  <a:pt x="9656" y="920"/>
                </a:lnTo>
                <a:arcTo wR="7493" hR="21600" stAng="-5758348" swAng="-5041652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D50-869B-472D-A016-F768BB1818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7880"/>
            <a:ext cx="88390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a training needs analysi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 training needs analysis is the 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method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of determining if a training need exists and if it does, what training is required to fill the gap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962520" y="1676520"/>
            <a:ext cx="5486400" cy="46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62E-EF61-4B2D-A315-24231ADF35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8305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should you conduct a TN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void training for ‘training sake’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pports cost effective training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argets areas of greatest need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ives information on the organisation’s climat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ives commitment from managers and train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parates the ‘symptoms’ from the cause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F4B-C065-4987-BAF5-79FBF5F050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can a need to identified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mplaints from staff, customers/cli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oor quality work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requent erro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rge staff turnov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adlines not being me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flict amongst staff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ew equipment system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2666880"/>
            <a:ext cx="3276720" cy="3581640"/>
          </a:xfrm>
          <a:prstGeom prst="irregularSeal1">
            <a:avLst/>
          </a:prstGeom>
          <a:solidFill>
            <a:srgbClr val="a7ccd9"/>
          </a:solidFill>
          <a:ln w="12600">
            <a:solidFill>
              <a:srgbClr val="545472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Indicators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of 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757-EEB5-4D86-B40A-2842EDF9FD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Job information that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needs to be collected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Job rol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Job proces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Task li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Job problem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Task frequenc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Task difficult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Task importanc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1" name="amorgani" descr=""/>
          <p:cNvPicPr/>
          <p:nvPr/>
        </p:nvPicPr>
        <p:blipFill>
          <a:blip r:embed="rId2"/>
          <a:stretch/>
        </p:blipFill>
        <p:spPr>
          <a:xfrm>
            <a:off x="6095880" y="2286000"/>
            <a:ext cx="1676520" cy="3733920"/>
          </a:xfrm>
          <a:prstGeom prst="rect">
            <a:avLst/>
          </a:prstGeom>
          <a:ln w="0">
            <a:noFill/>
          </a:ln>
        </p:spPr>
      </p:pic>
      <p:pic>
        <p:nvPicPr>
          <p:cNvPr id="162" name="amconfus" descr=""/>
          <p:cNvPicPr/>
          <p:nvPr/>
        </p:nvPicPr>
        <p:blipFill>
          <a:blip r:embed="rId3"/>
          <a:stretch/>
        </p:blipFill>
        <p:spPr>
          <a:xfrm>
            <a:off x="228600" y="3124080"/>
            <a:ext cx="1327320" cy="2853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19320" y="2438280"/>
            <a:ext cx="1523880" cy="1219320"/>
          </a:xfrm>
          <a:prstGeom prst="wedgeEllipseCallout">
            <a:avLst>
              <a:gd name="adj1" fmla="val -58856"/>
              <a:gd name="adj2" fmla="val 54949"/>
            </a:avLst>
          </a:prstGeom>
          <a:solidFill>
            <a:srgbClr val="a7ccd9"/>
          </a:solidFill>
          <a:ln w="1260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How often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2819520"/>
            <a:ext cx="1447920" cy="1218960"/>
          </a:xfrm>
          <a:prstGeom prst="wedgeEllipseCallout">
            <a:avLst>
              <a:gd name="adj1" fmla="val -75768"/>
              <a:gd name="adj2" fmla="val 26564"/>
            </a:avLst>
          </a:prstGeom>
          <a:solidFill>
            <a:srgbClr val="a7ccd9"/>
          </a:solidFill>
          <a:ln w="1260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How hard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934-86F4-4F40-830F-4DFD4326F9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do a TNA - proce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600200"/>
            <a:ext cx="4952880" cy="838080"/>
          </a:xfrm>
          <a:prstGeom prst="rightArrow">
            <a:avLst>
              <a:gd name="adj1" fmla="val 50000"/>
              <a:gd name="adj2" fmla="val 147745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1. Document the problem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2362320"/>
            <a:ext cx="5105520" cy="838080"/>
          </a:xfrm>
          <a:prstGeom prst="rightArrow">
            <a:avLst>
              <a:gd name="adj1" fmla="val 50000"/>
              <a:gd name="adj2" fmla="val 152298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. investigate the problem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3124080"/>
            <a:ext cx="5257800" cy="838440"/>
          </a:xfrm>
          <a:prstGeom prst="rightArrow">
            <a:avLst>
              <a:gd name="adj1" fmla="val 50000"/>
              <a:gd name="adj2" fmla="val 15677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. Plan the needs analysi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3809880"/>
            <a:ext cx="5257800" cy="838440"/>
          </a:xfrm>
          <a:prstGeom prst="rightArrow">
            <a:avLst>
              <a:gd name="adj1" fmla="val 50000"/>
              <a:gd name="adj2" fmla="val 15677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. Select the techniqu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4495680"/>
            <a:ext cx="5257800" cy="838440"/>
          </a:xfrm>
          <a:prstGeom prst="rightArrow">
            <a:avLst>
              <a:gd name="adj1" fmla="val 50000"/>
              <a:gd name="adj2" fmla="val 15677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5. Conduct the analysi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5257800"/>
            <a:ext cx="5257800" cy="838080"/>
          </a:xfrm>
          <a:prstGeom prst="rightArrow">
            <a:avLst>
              <a:gd name="adj1" fmla="val 50000"/>
              <a:gd name="adj2" fmla="val 156841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6. Analyse the dat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6019920"/>
            <a:ext cx="5257800" cy="838080"/>
          </a:xfrm>
          <a:prstGeom prst="rightArrow">
            <a:avLst>
              <a:gd name="adj1" fmla="val 50000"/>
              <a:gd name="adj2" fmla="val 156841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7. Report the finding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1371600"/>
            <a:ext cx="2590920" cy="2743200"/>
          </a:xfrm>
          <a:prstGeom prst="irregularSeal1">
            <a:avLst/>
          </a:prstGeom>
          <a:solidFill>
            <a:srgbClr val="a7ccd9"/>
          </a:solidFill>
          <a:ln w="1260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2F1-DDA2-4E5E-9AF8-5133B68414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s for carrying out TNA’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terview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rvey questionnair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ob descriptions and person specificatio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ritical incid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g books and other company record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dustry semina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pervisor’s repor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731-DE88-48FA-890E-DE2BB546FA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8T13:50:10Z</dcterms:created>
  <dc:creator>Bus Studies</dc:creator>
  <dc:description/>
  <dc:language>en-US</dc:language>
  <cp:lastModifiedBy>John McDonald</cp:lastModifiedBy>
  <cp:lastPrinted>1997-07-28T13:11:46Z</cp:lastPrinted>
  <dcterms:modified xsi:type="dcterms:W3CDTF">2000-08-01T21:42:34Z</dcterms:modified>
  <cp:revision>13</cp:revision>
  <dc:subject/>
  <dc:title>Training Needs Analysis</dc:title>
</cp:coreProperties>
</file>